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7A78-C64D-4F90-9FBA-3C038727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4AB1-137F-47FD-80D1-405EBA2C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9EBF-58DA-42DD-AAE4-B8329270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BE88-F6AE-47B7-8743-A251A18E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D72E-6FB6-453C-8014-4C04ABA1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DFBD-82E4-4462-B574-E27FE436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9F18-73C3-4F9D-885F-8DB66E90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CFA6-0DF0-47DD-B214-A54B9D4F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20FA-DFB8-4BA9-985B-91D1914C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BF1E-58E1-4B36-8F33-50F4E050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8CDA-6B77-4F65-BAF6-05A8BA96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302A-6880-460D-B745-C81992B7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2C21-7B7C-47E3-8380-1371BC2E3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La Rutina de Pedro- El Ko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334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Nombres: Olivia Barbieri y Eveline Redd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Re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áma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3760" y="4038120"/>
            <a:ext cx="3429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  <a:ea typeface="Arial"/>
              </a:rPr>
              <a:t>Ahora, Pedro se pone la ropa. Lleva una sudadera y los calcetines.</a:t>
            </a:r>
            <a:r>
              <a:rPr b="0" lang="es-PR" sz="32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1635120" cy="175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3429000"/>
            <a:ext cx="40384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Hoy es Domingo. Pedro se despierta a las diez de la ma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  <a:ea typeface="Arial"/>
              </a:rPr>
              <a:t>ñana. Es muy tarde. No se levanta ensegui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209680" y="1447920"/>
            <a:ext cx="1570320" cy="1619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172200" y="1447920"/>
            <a:ext cx="1690560" cy="2257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uarto de B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05720" y="3809520"/>
            <a:ext cx="22096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se maquilla, pero su novia se maqui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509840" cy="1933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124080" y="1523880"/>
            <a:ext cx="1176480" cy="2005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04920" y="4724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858000" y="1066680"/>
            <a:ext cx="1981080" cy="2314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" y="2133720"/>
            <a:ext cx="23623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dro se lava la cara en el b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838080"/>
            <a:ext cx="28195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 cepilla los dientes con el cepillo de dientes y con el tubo de pasta. Se mira en el espe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4724280"/>
            <a:ext cx="228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dro se peina el pelo con el pe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68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68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o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48520" y="3124080"/>
            <a:ext cx="26668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gusta el desayuno. Ahora, se levanta y va a ir a la escue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895760" cy="2419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3200400" cy="2155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038480" y="1295280"/>
            <a:ext cx="2143080" cy="2133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" y="3505320"/>
            <a:ext cx="3657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la cocina, Pedro come. Hoy se sienta a la mesa, y se desayuna. Tomo las hojas de eucalip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3657600"/>
            <a:ext cx="2210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be el jugo de naran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Escue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7892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dro llega a la escuela en carro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l se sienta en la clase de matematicas. Una alumna nueva viene en la clase. La profesora pregunta, ¿Cómo te llamas?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 alumna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spuestas, me llamo Aria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uego, Pedro se sienta a la mes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ma el almuerzo. Come un bocadillo, una yogur, y una manza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3038400" cy="1505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010280" y="228600"/>
            <a:ext cx="1600200" cy="1828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315200" y="1981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llama Ari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57240" y="-36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B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52280"/>
            <a:ext cx="3505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ora, Pedro sale a la escuela y vuelve a casa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Él está muy cansado porque el día fue muy ocup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80880" y="457200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1863720" cy="190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391520" y="304920"/>
            <a:ext cx="158724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5105520" y="3886200"/>
            <a:ext cx="1457280" cy="2209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3657600" y="1447920"/>
            <a:ext cx="1676520" cy="1168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362320" y="2743200"/>
            <a:ext cx="2743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dro se ducha. Se lava el pelo con el champú y se lava con la barra de jab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838080"/>
            <a:ext cx="25146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 afeita con la navaja y con la crema de afeit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3809880"/>
            <a:ext cx="2286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hora se lava los dientes con el cepillo de dien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uarto de Dorm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486400" y="4572000"/>
            <a:ext cx="3657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ñana él va a repetir su rutina. ¡Adiós, Pedro! ¡Buenas noch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1923840" cy="2371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048120" y="18288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400800" y="1066680"/>
            <a:ext cx="1743120" cy="2619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095880" y="37339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enas noches, Ped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038480"/>
            <a:ext cx="2057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dro se pone las pijam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3809880"/>
            <a:ext cx="35053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acuesta a las once de la noche. Se duerme ensegui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-0.1 -0.21097 C -0.03108 -0.21097 0.025 -0.18252 0.025 -0.14712 C 0.025 -0.11196 -0.03108 -0.08328 -0.1 -0.08328 C -0.1691 -0.08328 -0.225 -0.11196 -0.225 -0.14712 C -0.225 -0.18252 -0.1691 -0.21097 -0.1 -0.21097 Z">
                                      <p:cBhvr>
                                        <p:cTn id="173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4:25:52Z</dcterms:created>
  <dc:creator>barbierioli</dc:creator>
  <dc:description/>
  <dc:language>en-US</dc:language>
  <cp:lastModifiedBy>reddingtoneve</cp:lastModifiedBy>
  <dcterms:modified xsi:type="dcterms:W3CDTF">2012-04-05T13:02:30Z</dcterms:modified>
  <cp:revision>17</cp:revision>
  <dc:subject/>
  <dc:title>La Rutina de Pedro- El Koala</dc:title>
</cp:coreProperties>
</file>